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A15-2EDD-418E-A185-56FAE853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CE4-8411-490E-84B1-57B943E5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BD4-5F29-4EC0-BFF4-AE875169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F3A-6C2A-48CF-BD98-43E151A7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2626-1A22-48F4-9AD3-DAD28F53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9110-2A55-404C-A5D5-BE61586E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9D61-FF28-4A56-A37F-C893CE9A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33CC-85E7-45CE-8C6F-1E139E77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CF79-710D-4817-8261-2D914778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AA5D-36C8-4A2A-A7C3-C937B47E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AFD8-9D72-4712-B6D9-C06D21C5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07A-BA72-4CDC-91FC-2B1BB333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5462-0C2A-4E4F-AC47-D59BD00A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F23C-BA90-40D9-9AF7-348951D2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4BA1-6404-43F3-917F-F9D5EC2D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AC25-68FD-48B6-9583-53310D0E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976A-F350-4CE4-8E4C-4D561222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ADD-1E0E-468E-9AE3-DB6144C5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9DB-4B99-450D-811F-1B86BCC6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70F-FE5D-488C-B569-3E0C19B0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D49-F01C-4692-8F55-437B9DE2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3BE-55F5-445E-A452-0BC570EE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CF0-0265-4C63-B510-70ABEB0D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2B0-5C8A-4C4D-875D-3D2C8F19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350C-0D87-4824-A187-B431CDCF7C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0CB6-33AC-415A-BC55-14EEC75C8651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Mapping TAKS Select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Narrative – 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with plo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Charac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Narrative – 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without plo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gnificant Charact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unctional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ype of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docu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o used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docu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documen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was us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documen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was us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Mixed Select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f it is narrative with facts, use </a:t>
            </a:r>
            <a:r>
              <a:rPr b="1" lang="en-US" sz="4400" spc="-1" strike="noStrike">
                <a:solidFill>
                  <a:srgbClr val="4b4eb5"/>
                </a:solidFill>
                <a:latin typeface="Tahoma"/>
              </a:rPr>
              <a:t>narrative mapp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f the overall purpose is to inform, use </a:t>
            </a:r>
            <a:r>
              <a:rPr b="1" lang="en-US" sz="4400" spc="-1" strike="noStrike">
                <a:solidFill>
                  <a:srgbClr val="4b4eb5"/>
                </a:solidFill>
                <a:latin typeface="Tahoma"/>
              </a:rPr>
              <a:t>topic and main idea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to summariz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aired Select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mmariz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each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selection b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it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struc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0:50:08Z</dcterms:created>
  <dc:creator>Teresa Easterling</dc:creator>
  <dc:description/>
  <dc:language>en-US</dc:language>
  <cp:lastModifiedBy>Teresa Easterling</cp:lastModifiedBy>
  <dcterms:modified xsi:type="dcterms:W3CDTF">2008-08-01T17:46:52Z</dcterms:modified>
  <cp:revision>4</cp:revision>
  <dc:subject/>
  <dc:title>Mapping TAKS Selections</dc:title>
</cp:coreProperties>
</file>